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5D68-72B6-4A9D-8AD3-7C0295C6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A13-5226-43BB-97BA-0AD6A60B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2F9-4B4D-4E67-B1AB-6AAA98B0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E00-BF2E-46BA-869A-6AD791E4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441-A822-4A53-81BA-1F001BF0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CB12-540B-430D-B19D-EF76EAA2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61A-6358-4450-AC6A-B7AB2BDF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7BF3-7E1F-4695-B130-25D1D445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AE1-16AA-4E4C-81DF-A6F9789D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E637-A67A-443A-99BC-4CD573C8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9132-E926-4BAE-9343-150CD4FD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BF1-E348-4A74-A151-C9B31F15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878A-BCD6-4AD6-AE6E-6797CA25C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7000" y="65160"/>
          <a:ext cx="9117000" cy="6824520"/>
        </p:xfrm>
        <a:graphic>
          <a:graphicData uri="http://schemas.openxmlformats.org/drawingml/2006/table">
            <a:tbl>
              <a:tblPr/>
              <a:tblGrid>
                <a:gridCol w="1219320"/>
                <a:gridCol w="1447560"/>
                <a:gridCol w="1770120"/>
                <a:gridCol w="1855800"/>
                <a:gridCol w="1595520"/>
                <a:gridCol w="1228680"/>
              </a:tblGrid>
              <a:tr h="17784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quirements:  pict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less than 50% of the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75% or more of the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100% of the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mar accura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errors make meaning completely unclear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significantly hinder meaning in some instances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ly understandable, with errors that may impede comprehensibi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ly correct mistakes do not impede comprehensi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s control of grammar with only minor mistakes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08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entation was lacking creativity or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howed thought, creativity, preparation (one was lackin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ed presentation shows thought and creativity and prepa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oken Fluen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ce is so choppy that it impeded the ability to be understoo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metimes pace or intonation makes it hard to understand.  Only a sympathetic listener would underst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e and intonation is appropriate, showing 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unc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metimes pronunciation makes it difficult to understand the cont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nunciation is appropria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hensi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in idea is unclear due to irrelevant details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r clearly conveys the main idea, providing details and fulfilling all of the requiremen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of Express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shows lack of mastery of basic Germ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novice level speaker.  Basic presentation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takes risks to manipulate the language and ideas flow from topic to top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inaccurate use of 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use of vocabulary with little or no variety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and varied use of vocabulary 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ritten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less than 50% of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cluded 50% - 74% of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cluded 75 % of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cludes all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Box 1"/>
          <p:cNvSpPr/>
          <p:nvPr/>
        </p:nvSpPr>
        <p:spPr>
          <a:xfrm>
            <a:off x="6502320" y="5562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_______/4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518160" y="1828800"/>
            <a:ext cx="243864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rn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eber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 liebsten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ut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ser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 besten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e findest du? &amp; Ich finde… ____(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inions 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ro and goodbye 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20:35:31Z</dcterms:created>
  <dc:creator>Alissa Hart</dc:creator>
  <dc:description/>
  <dc:language>en-US</dc:language>
  <cp:lastModifiedBy>Alissa Hart</cp:lastModifiedBy>
  <dcterms:modified xsi:type="dcterms:W3CDTF">2015-02-23T01:45:26Z</dcterms:modified>
  <cp:revision>10</cp:revision>
  <dc:subject/>
  <dc:title>PowerPoint Presentation</dc:title>
</cp:coreProperties>
</file>